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0520" y="226800"/>
            <a:ext cx="1168884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520" y="2282760"/>
            <a:ext cx="11688840" cy="306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50520" y="5636880"/>
            <a:ext cx="11688840" cy="306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520" y="226800"/>
            <a:ext cx="1168884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520" y="2282760"/>
            <a:ext cx="5703840" cy="306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9840" y="2282760"/>
            <a:ext cx="5703840" cy="306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50520" y="5636880"/>
            <a:ext cx="5703840" cy="306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9840" y="5636880"/>
            <a:ext cx="5703840" cy="306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520" y="226800"/>
            <a:ext cx="1168884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520" y="2282760"/>
            <a:ext cx="3763440" cy="306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2600" y="2282760"/>
            <a:ext cx="3763440" cy="306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54680" y="2282760"/>
            <a:ext cx="3763440" cy="306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50520" y="5636880"/>
            <a:ext cx="3763440" cy="306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02600" y="5636880"/>
            <a:ext cx="3763440" cy="306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554680" y="5636880"/>
            <a:ext cx="3763440" cy="306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50520" y="226800"/>
            <a:ext cx="1168884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50520" y="2282760"/>
            <a:ext cx="11688840" cy="64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50520" y="226800"/>
            <a:ext cx="1168884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50520" y="2282760"/>
            <a:ext cx="11688840" cy="64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0520" y="226800"/>
            <a:ext cx="1168884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0520" y="2282760"/>
            <a:ext cx="5703840" cy="64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9840" y="2282760"/>
            <a:ext cx="5703840" cy="64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520" y="226800"/>
            <a:ext cx="1168884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50520" y="226800"/>
            <a:ext cx="11688840" cy="903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0520" y="226800"/>
            <a:ext cx="1168884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0520" y="2282760"/>
            <a:ext cx="5703840" cy="306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9840" y="2282760"/>
            <a:ext cx="5703840" cy="64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50520" y="5636880"/>
            <a:ext cx="5703840" cy="306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0520" y="226800"/>
            <a:ext cx="1168884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0520" y="2282760"/>
            <a:ext cx="5703840" cy="64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9840" y="2282760"/>
            <a:ext cx="5703840" cy="306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9840" y="5636880"/>
            <a:ext cx="5703840" cy="306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0520" y="226800"/>
            <a:ext cx="1168884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520" y="2282760"/>
            <a:ext cx="5703840" cy="306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9840" y="2282760"/>
            <a:ext cx="5703840" cy="306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520" y="5636880"/>
            <a:ext cx="11688840" cy="306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520" y="226800"/>
            <a:ext cx="1168884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520" y="2282760"/>
            <a:ext cx="11688840" cy="64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" descr=""/>
          <p:cNvPicPr/>
          <p:nvPr/>
        </p:nvPicPr>
        <p:blipFill>
          <a:blip r:embed="rId1"/>
          <a:stretch/>
        </p:blipFill>
        <p:spPr>
          <a:xfrm>
            <a:off x="3057480" y="15840"/>
            <a:ext cx="6899400" cy="975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057480" y="15840"/>
            <a:ext cx="6899400" cy="975204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57480" y="15840"/>
            <a:ext cx="6899400" cy="975204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057480" y="15840"/>
            <a:ext cx="6899400" cy="975204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057480" y="15840"/>
            <a:ext cx="6899400" cy="975204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57480" y="15840"/>
            <a:ext cx="6899400" cy="975204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057480" y="15840"/>
            <a:ext cx="6899400" cy="975204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057480" y="15840"/>
            <a:ext cx="6899400" cy="975204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3006720" y="79200"/>
            <a:ext cx="7000920" cy="962676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3006720" y="193680"/>
            <a:ext cx="7000920" cy="939816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57480" y="15840"/>
            <a:ext cx="6899400" cy="975204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057480" y="15840"/>
            <a:ext cx="6899400" cy="975204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57480" y="15840"/>
            <a:ext cx="6899400" cy="975204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57480" y="15840"/>
            <a:ext cx="6899400" cy="975204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057480" y="15840"/>
            <a:ext cx="6899400" cy="975204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057480" y="15840"/>
            <a:ext cx="6899400" cy="975204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