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1169208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880" y="5638680"/>
            <a:ext cx="1169208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2360" y="228276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880" y="563868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2360" y="563868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376452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4040" y="2282760"/>
            <a:ext cx="376452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57200" y="2282760"/>
            <a:ext cx="376452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880" y="5638680"/>
            <a:ext cx="376452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4040" y="5638680"/>
            <a:ext cx="376452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57200" y="5638680"/>
            <a:ext cx="376452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880" y="2282760"/>
            <a:ext cx="11692080" cy="6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11692080" cy="6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5640" cy="6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2360" y="2282760"/>
            <a:ext cx="5705640" cy="6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880" y="226800"/>
            <a:ext cx="116920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2360" y="2282760"/>
            <a:ext cx="5705640" cy="6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880" y="563868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5640" cy="6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2360" y="228276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2360" y="563868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228276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2360" y="2282760"/>
            <a:ext cx="570564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5638680"/>
            <a:ext cx="11692080" cy="30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226800"/>
            <a:ext cx="116920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82760"/>
            <a:ext cx="11692080" cy="6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070080" y="-6480"/>
            <a:ext cx="698832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063960" y="326880"/>
            <a:ext cx="7000920" cy="8940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63960" y="58680"/>
            <a:ext cx="7000920" cy="955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79800" y="30240"/>
            <a:ext cx="697068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14720" y="30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